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43891200"/>
  <p:notesSz cx="32100838" cy="4221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A35-A2D3-4C45-8CF3-D86AC2F4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939-807C-4568-8277-E08289C9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414-5436-494B-8032-084D3F3E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328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8064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328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8064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9C3-0E61-44C3-9C00-78C54C44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25"/>
              </a:spcBef>
              <a:buNone/>
              <a:tabLst>
                <a:tab algn="l" pos="0"/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710-B7BD-4E81-BA6A-C4D347C9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D28-CDE6-4929-BA7C-F2392904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5F6-C135-493A-8CFF-FC1CD48C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906-543A-41F2-B626-6DF30D1D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1757520"/>
            <a:ext cx="2962764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25"/>
              </a:spcBef>
              <a:tabLst>
                <a:tab algn="l" pos="0"/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30F-6E41-4391-B99A-E045AE32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B22-178D-4941-9E4F-CF5CE0C9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595-8EF5-498D-8D87-053A42C4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AE5-8F59-4C41-A034-6CC0A5C7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r>
              <a:rPr b="0" lang="en-US" sz="28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 fontScale="86000"/>
          </a:bodyPr>
          <a:p>
            <a:pPr marL="1886400" indent="-1886400">
              <a:spcBef>
                <a:spcPts val="5125"/>
              </a:spcBef>
              <a:buClr>
                <a:srgbClr val="000000"/>
              </a:buClr>
              <a:buFont typeface="Arial"/>
              <a:buChar char="•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1" marL="4088880" indent="-1571040">
              <a:spcBef>
                <a:spcPts val="5125"/>
              </a:spcBef>
              <a:buClr>
                <a:srgbClr val="000000"/>
              </a:buClr>
              <a:buFont typeface="Arial"/>
              <a:buChar char="–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2" marL="6289560" indent="-1257480">
              <a:spcBef>
                <a:spcPts val="5125"/>
              </a:spcBef>
              <a:buClr>
                <a:srgbClr val="000000"/>
              </a:buClr>
              <a:buFont typeface="Arial"/>
              <a:buChar char="•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3" marL="8807040" indent="-1257120">
              <a:spcBef>
                <a:spcPts val="5125"/>
              </a:spcBef>
              <a:buClr>
                <a:srgbClr val="000000"/>
              </a:buClr>
              <a:buFont typeface="Arial"/>
              <a:buChar char="–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4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5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6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5920" y="406792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51440"/>
              </a:tabLst>
              <a:defRPr b="0" lang="en-US" sz="7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51440"/>
              </a:tabLst>
            </a:pPr>
            <a:r>
              <a:rPr b="0" lang="en-US" sz="7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120" y="40679280"/>
            <a:ext cx="104252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>
              <a:buNone/>
              <a:tabLst>
                <a:tab algn="l" pos="0"/>
                <a:tab algn="l" pos="585144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520" y="406792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51440"/>
              </a:tabLst>
              <a:defRPr b="0" lang="en-US" sz="7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51440"/>
              </a:tabLst>
            </a:pPr>
            <a:fld id="{88218EA3-B587-4EBF-B643-C16F8752B08D}" type="slidenum">
              <a:rPr b="0" lang="en-US" sz="7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12" descr="explose boite-prop.jpg"/>
          <p:cNvPicPr/>
          <p:nvPr/>
        </p:nvPicPr>
        <p:blipFill>
          <a:blip r:embed="rId1"/>
          <a:srcRect l="0" t="0" r="12502" b="13339"/>
          <a:stretch/>
        </p:blipFill>
        <p:spPr>
          <a:xfrm>
            <a:off x="11430000" y="39928680"/>
            <a:ext cx="5334120" cy="3962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71" descr="pain.jpg"/>
          <p:cNvPicPr/>
          <p:nvPr/>
        </p:nvPicPr>
        <p:blipFill>
          <a:blip r:embed="rId2"/>
          <a:stretch/>
        </p:blipFill>
        <p:spPr>
          <a:xfrm>
            <a:off x="19050120" y="8001000"/>
            <a:ext cx="12496680" cy="628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P:\Malek\ER---RENDU\gris copy.jpg"/>
          <p:cNvPicPr/>
          <p:nvPr/>
        </p:nvPicPr>
        <p:blipFill>
          <a:blip r:embed="rId3"/>
          <a:stretch/>
        </p:blipFill>
        <p:spPr>
          <a:xfrm>
            <a:off x="0" y="1295280"/>
            <a:ext cx="32918400" cy="5257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rcRect l="18942" t="17968" r="68125" b="75005"/>
          <a:stretch/>
        </p:blipFill>
        <p:spPr>
          <a:xfrm>
            <a:off x="25146000" y="1295280"/>
            <a:ext cx="51451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5"/>
          <a:stretch/>
        </p:blipFill>
        <p:spPr>
          <a:xfrm>
            <a:off x="30251520" y="1295280"/>
            <a:ext cx="2666880" cy="121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1"/>
          <p:cNvSpPr/>
          <p:nvPr/>
        </p:nvSpPr>
        <p:spPr>
          <a:xfrm>
            <a:off x="1450080" y="7772400"/>
            <a:ext cx="394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0" y="2590920"/>
            <a:ext cx="32918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BALEK LIGHTING          </a:t>
            </a:r>
            <a:r>
              <a:rPr b="1" lang="en-US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grated Lighting Syste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685800" y="4800600"/>
            <a:ext cx="311659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ao Ngoc T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Health Systems Institute and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alek Bessaad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llege of Architecture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19354680" y="5638680"/>
            <a:ext cx="1866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eorgia Institute of Technology, Atlanta GA 30332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08" descr="4A copy.jpg"/>
          <p:cNvPicPr/>
          <p:nvPr/>
        </p:nvPicPr>
        <p:blipFill>
          <a:blip r:embed="rId6"/>
          <a:stretch/>
        </p:blipFill>
        <p:spPr>
          <a:xfrm>
            <a:off x="1219320" y="3749040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11" descr="explose boite.jpg"/>
          <p:cNvPicPr/>
          <p:nvPr/>
        </p:nvPicPr>
        <p:blipFill>
          <a:blip r:embed="rId7"/>
          <a:srcRect l="6248" t="0" r="11250" b="13331"/>
          <a:stretch/>
        </p:blipFill>
        <p:spPr>
          <a:xfrm>
            <a:off x="18364320" y="30632400"/>
            <a:ext cx="6429240" cy="5065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6" descr="part1-lampes-camA.jpg"/>
          <p:cNvPicPr/>
          <p:nvPr/>
        </p:nvPicPr>
        <p:blipFill>
          <a:blip r:embed="rId8"/>
          <a:stretch/>
        </p:blipFill>
        <p:spPr>
          <a:xfrm>
            <a:off x="1219320" y="1783080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8" descr="PROBLEM-SHADDOW.jpg"/>
          <p:cNvPicPr/>
          <p:nvPr/>
        </p:nvPicPr>
        <p:blipFill>
          <a:blip r:embed="rId9">
            <a:lum contrast="30000"/>
          </a:blip>
          <a:srcRect l="17003" t="0" r="32003" b="0"/>
          <a:stretch/>
        </p:blipFill>
        <p:spPr>
          <a:xfrm>
            <a:off x="8839080" y="8001000"/>
            <a:ext cx="4373640" cy="643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61" descr="arc-en-ciel.jpg"/>
          <p:cNvPicPr/>
          <p:nvPr/>
        </p:nvPicPr>
        <p:blipFill>
          <a:blip r:embed="rId10"/>
          <a:stretch/>
        </p:blipFill>
        <p:spPr>
          <a:xfrm>
            <a:off x="27508320" y="8001000"/>
            <a:ext cx="5410080" cy="632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0" descr="COLOR TABLE.jpg"/>
          <p:cNvPicPr/>
          <p:nvPr/>
        </p:nvPicPr>
        <p:blipFill>
          <a:blip r:embed="rId11"/>
          <a:stretch/>
        </p:blipFill>
        <p:spPr>
          <a:xfrm>
            <a:off x="27889200" y="37109520"/>
            <a:ext cx="3429000" cy="583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1" descr="graph.jpg"/>
          <p:cNvPicPr/>
          <p:nvPr/>
        </p:nvPicPr>
        <p:blipFill>
          <a:blip r:embed="rId12"/>
          <a:stretch/>
        </p:blipFill>
        <p:spPr>
          <a:xfrm>
            <a:off x="20802600" y="37795320"/>
            <a:ext cx="6205680" cy="443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9" descr="B1.jpg"/>
          <p:cNvPicPr/>
          <p:nvPr/>
        </p:nvPicPr>
        <p:blipFill>
          <a:blip r:embed="rId13"/>
          <a:stretch/>
        </p:blipFill>
        <p:spPr>
          <a:xfrm>
            <a:off x="18516600" y="17830800"/>
            <a:ext cx="13469760" cy="1188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5" descr="R2.jpg"/>
          <p:cNvPicPr/>
          <p:nvPr/>
        </p:nvPicPr>
        <p:blipFill>
          <a:blip r:embed="rId14"/>
          <a:stretch/>
        </p:blipFill>
        <p:spPr>
          <a:xfrm>
            <a:off x="25450920" y="30480120"/>
            <a:ext cx="6437160" cy="520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6" descr="2A copy.jpg"/>
          <p:cNvPicPr/>
          <p:nvPr/>
        </p:nvPicPr>
        <p:blipFill>
          <a:blip r:embed="rId15"/>
          <a:stretch/>
        </p:blipFill>
        <p:spPr>
          <a:xfrm>
            <a:off x="9372600" y="1783080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37" descr="3A copy.jpg"/>
          <p:cNvPicPr/>
          <p:nvPr/>
        </p:nvPicPr>
        <p:blipFill>
          <a:blip r:embed="rId16"/>
          <a:stretch/>
        </p:blipFill>
        <p:spPr>
          <a:xfrm>
            <a:off x="1168560" y="23926680"/>
            <a:ext cx="15849360" cy="118872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373"/>
          <p:cNvGrpSpPr/>
          <p:nvPr/>
        </p:nvGrpSpPr>
        <p:grpSpPr>
          <a:xfrm>
            <a:off x="1447920" y="9906120"/>
            <a:ext cx="5943600" cy="3531960"/>
            <a:chOff x="1447920" y="9906120"/>
            <a:chExt cx="5943600" cy="3531960"/>
          </a:xfrm>
        </p:grpSpPr>
        <p:pic>
          <p:nvPicPr>
            <p:cNvPr id="62" name="Picture 344" descr="6916,1125179725,1.jpg"/>
            <p:cNvPicPr/>
            <p:nvPr/>
          </p:nvPicPr>
          <p:blipFill>
            <a:blip r:embed="rId17"/>
            <a:stretch/>
          </p:blipFill>
          <p:spPr>
            <a:xfrm>
              <a:off x="4684320" y="10307160"/>
              <a:ext cx="2707200" cy="179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57" descr="AA043359.jpg"/>
            <p:cNvPicPr/>
            <p:nvPr/>
          </p:nvPicPr>
          <p:blipFill>
            <a:blip r:embed="rId18"/>
            <a:stretch/>
          </p:blipFill>
          <p:spPr>
            <a:xfrm>
              <a:off x="2816640" y="9906120"/>
              <a:ext cx="1739880" cy="14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359" descr="AA043624.jpg"/>
            <p:cNvPicPr/>
            <p:nvPr/>
          </p:nvPicPr>
          <p:blipFill>
            <a:blip r:embed="rId19"/>
            <a:stretch/>
          </p:blipFill>
          <p:spPr>
            <a:xfrm>
              <a:off x="1447920" y="11693520"/>
              <a:ext cx="1746000" cy="15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362" descr="CA08149.jpg"/>
            <p:cNvPicPr/>
            <p:nvPr/>
          </p:nvPicPr>
          <p:blipFill>
            <a:blip r:embed="rId20"/>
            <a:srcRect l="0" t="4689" r="0" b="0"/>
            <a:stretch/>
          </p:blipFill>
          <p:spPr>
            <a:xfrm>
              <a:off x="3188160" y="11361240"/>
              <a:ext cx="1641960" cy="178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66" descr="drs.jpg"/>
            <p:cNvPicPr/>
            <p:nvPr/>
          </p:nvPicPr>
          <p:blipFill>
            <a:blip r:embed="rId21"/>
            <a:stretch/>
          </p:blipFill>
          <p:spPr>
            <a:xfrm>
              <a:off x="4654080" y="12186000"/>
              <a:ext cx="1891800" cy="125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Picture 347" descr="080220-F-5957S-116.jpg"/>
          <p:cNvPicPr/>
          <p:nvPr/>
        </p:nvPicPr>
        <p:blipFill>
          <a:blip r:embed="rId22"/>
          <a:stretch/>
        </p:blipFill>
        <p:spPr>
          <a:xfrm>
            <a:off x="16148160" y="11350800"/>
            <a:ext cx="4206600" cy="265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9" descr="56959513.jpg"/>
          <p:cNvPicPr/>
          <p:nvPr/>
        </p:nvPicPr>
        <p:blipFill>
          <a:blip r:embed="rId23"/>
          <a:stretch/>
        </p:blipFill>
        <p:spPr>
          <a:xfrm>
            <a:off x="18056160" y="921708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97"/>
          <p:cNvSpPr/>
          <p:nvPr/>
        </p:nvSpPr>
        <p:spPr>
          <a:xfrm>
            <a:off x="-914400" y="15163920"/>
            <a:ext cx="3291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BETTER  LIGHT  FOR  BETTER  HEALT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9296280" y="37261800"/>
            <a:ext cx="1539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Future improvem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4"/>
          <p:cNvSpPr/>
          <p:nvPr/>
        </p:nvSpPr>
        <p:spPr>
          <a:xfrm>
            <a:off x="9296280" y="3863340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of only spots full spectrum 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With a automatic detection and variability of the intensity. Able to focus on the area need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12748680" y="17907120"/>
            <a:ext cx="43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ull spectrum light in 1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11687400" y="24079320"/>
            <a:ext cx="53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ull spectrum light in 1 area + sp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3905640" y="17830800"/>
            <a:ext cx="49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ull spectrum light – general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26092080" y="1798308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lticolor  LED light – color chan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6868800" y="3748572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nly spot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0" y="13944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or lighting to provide quality 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16078320" y="7086600"/>
            <a:ext cx="161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or quality of lighting increase stress &amp; lack of comfort for the patient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7"/>
          <p:cNvSpPr/>
          <p:nvPr/>
        </p:nvSpPr>
        <p:spPr>
          <a:xfrm>
            <a:off x="9753480" y="28194120"/>
            <a:ext cx="102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54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For doctor &amp; nur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97"/>
          <p:cNvSpPr/>
          <p:nvPr/>
        </p:nvSpPr>
        <p:spPr>
          <a:xfrm>
            <a:off x="18592920" y="25069680"/>
            <a:ext cx="1219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54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For  the pat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4:13:12Z</dcterms:created>
  <dc:creator>user</dc:creator>
  <dc:description/>
  <dc:language>en-US</dc:language>
  <cp:lastModifiedBy>My Ngoc</cp:lastModifiedBy>
  <dcterms:modified xsi:type="dcterms:W3CDTF">2008-12-02T12:33:02Z</dcterms:modified>
  <cp:revision>62</cp:revision>
  <dc:subject/>
  <dc:title>Slide 1</dc:title>
</cp:coreProperties>
</file>